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ACA-4D65-4662-BB24-DCCA95C2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2AD-CFE3-4A5A-81E6-BDDBF17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92A-179A-4A5A-AEBE-E83B0518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19B-45EB-4B37-8DB2-91180D4B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F13-F361-4C0E-9BD0-515D4C2C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8EC-934C-43BD-A682-73DFE5A2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5C9-15CB-46C6-A0B9-203C8DD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34-DA53-4BFE-8863-8442719C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7FF-3622-43AF-A1E6-8796043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DC5-6CC4-43D9-925E-78AF963A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9AF-294C-43CB-AF6E-A4DB504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709-F687-425E-BB68-6F67275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6AE1-9F92-43D9-B410-361FB3F8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691" t="18519" r="14585" b="15037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08:23Z</dcterms:created>
  <dc:creator>cpagliaro</dc:creator>
  <dc:description/>
  <dc:language>en-US</dc:language>
  <cp:lastModifiedBy>cpagliaro</cp:lastModifiedBy>
  <dcterms:modified xsi:type="dcterms:W3CDTF">2010-11-10T18:46:25Z</dcterms:modified>
  <cp:revision>2</cp:revision>
  <dc:subject/>
  <dc:title>Slide 1</dc:title>
</cp:coreProperties>
</file>